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548-2517-4B03-9A2E-66ED1BC48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13EE-17CD-4D19-8F31-32A451B8F84A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4A0-7B36-4DE5-8DB6-6C0C5A1C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840-96AB-453A-9D21-F846E7DC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6418B-24A4-41E1-86C7-C42D9386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DD19F-86ED-4BB9-8C73-3E4037C7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3E8A1-90FC-4715-A6E6-66F0C85A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9C062-C63B-4D7E-BC76-19F595BF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B043D-F545-482F-804F-DF431B5A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E050E-1E31-4FA0-9686-D16B292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7A3CF-7716-4BAD-9F3F-403DBCDF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6923E-5A7D-4FD6-BAE7-70F648F2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CF61A-FC1F-4979-9D1B-88464919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8529B-AD28-4771-8FB7-D9A4033B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BED-FB4A-4D6B-87C7-13E9BA54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D15F9-90E4-42FC-9908-1928CE9E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CBD64-9F36-4D1C-84E7-77265EA8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157FF-5284-4290-96F4-21B1FF56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04DB8-269A-4BBF-9EA6-D0FD3AA7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110FF-01E7-4ABB-BEAF-D25C5C4D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3B7AC-DB3E-4C70-989C-D2CEABB3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6C503-393D-4195-8E01-A2061B4E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FC878-C8C2-4278-B206-2F12DE0A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CF16F-2594-4F9E-83A1-326E84E8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5FB32-ED73-42A5-8117-2E99A02A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656-0579-4047-A557-945F1F51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94B86-89E0-4EBF-98AE-40A078D1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0680-8E0A-4BB5-B2B7-9844E834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616E-9B70-488D-B693-E138147B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F988-DA00-4483-9141-6B3AEA81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D061-EA6D-4FE8-939C-EBFA6625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1B06-02F7-4574-A206-17CA1A0F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ABFB-ED5C-4AC2-BFF1-5731B17E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4B2D-1BC0-42F5-8D4C-CCF078D7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CB0-61FE-4476-814D-3E326475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F02-9D88-4ED9-95C2-A9928295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E8AD-D656-46E1-82E8-84F94BC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AFE6-89C8-439E-A7BB-FB2E5AD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B1FA-F1E8-411A-912A-E7739921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4F59-A838-4703-8C2B-2E4E43C2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E69B-A57C-4AE4-9AEB-44B007E9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6CD8-EBE9-4033-989B-AD82EE29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E353-E812-49ED-8F00-4FAE9BED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E24A-14DC-4402-BA2E-C489AF09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36DC-8E1E-40CB-9FA9-509E407B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1F9-1ACE-4E24-B0CB-E1A518A8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9B98-E3C3-424F-8F4F-4F368873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CFED-C2E3-4F9E-8202-DD60EE4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5B5B-6F2A-4BAE-9B47-D2BC9E9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CC42A-5ABE-4FDF-A88F-2FD3BE6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FBD4-2C88-4F03-A2C8-08123717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B3DD-96EA-480A-8FD3-0E7EB479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4631-8EBE-4795-AAD5-3D3996C5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C27A7-0DAB-49F3-8E14-308B4866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84D15-B0BE-467A-9BBA-54123EC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7635-286A-4CE8-8901-72902EC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BDD-AAEB-4A59-95FB-2B47F7CF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A47C-D820-4C5C-B579-4310C0C0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43D6-6D9A-4739-9E8C-DBCAF29E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05AD-13B0-4A9B-828C-2168174C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0178-6461-490D-BF23-69E090B6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A778-761D-4552-B33E-6851DF8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0E0F2-8E12-4B86-8662-F93C05F0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F531-365E-42D6-BDDE-48C5A54A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940A-684B-411D-9969-087686D9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86A5-8107-4D7C-A261-9897E74F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08650-2636-40E1-9183-F63234A7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21E-1EC7-4970-A446-9576AA1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137A6-B05B-4A88-A5EA-301A4919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EE43C-2E78-4544-82CB-5BD33262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F0110-344E-43FD-B32A-0354E58C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C895-32B8-4A25-9D96-F4AA7511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A0918-7C5F-4C2A-9F4B-11749645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B2C2-7F73-4BF3-B58A-D58EF16A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0F424-D13F-4190-9201-B3AC57B8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31960-02D2-4244-9629-CE2371A1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9AA4-CA22-49DF-ADA5-46661A2E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57F56-EBAD-4677-AFE9-268E27BB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549-CAA5-4347-9F1C-2B03784C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7AA3-D56C-457C-9F61-64D39A20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BC36-5E20-4316-8658-2F07D9A6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0BCEE-6C2E-4FEE-9038-892148A7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A60CF-05F9-40E1-901C-D2C11CA5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06447-09D2-403D-8BD3-77C2911D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BB9C-7782-4D18-86D8-F99E8974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1805A-44C8-4452-AE20-2AF632AE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DABA8-FFF1-460B-AB4B-B186B87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4FCE4-BB90-492A-A303-5510C828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B0AB-C26C-43DD-9295-6E9181F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ABF-0331-4E46-889D-D6A578D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15C9-DE0C-4DC9-9A9D-52E466BB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75711-E30A-445E-AF4D-AE2BCE9F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1D5CA-0212-46BA-85D1-7CA4FF8A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73962-ED41-4990-AD02-0B9A6011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C57CB-30CD-4BD0-BC9A-1E61F525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1B5C-5C53-4212-B2AB-58C00AEA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8F376-5C48-482E-B336-3278CDAA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5A878-ACB3-4F9C-8654-572E90CA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3A9B7-2610-4AA3-A377-5EFC8EE2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DD931-C141-4BF0-9713-F45C8B7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A57-2F54-4DCD-AF55-9F77EE4D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4BFB1-F3B9-4294-B8BB-DACEB6D3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1C74D-AB3B-4B0B-A322-F0A0ACE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CB652-A1E2-43CC-BA17-0082EBB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0DA8B-F183-4A8C-92B8-648B1324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4B14-4A38-4013-B990-B9AC3637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19DCE-4578-4D40-9C88-E7E9E7B7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7E21A-D666-44A1-91CE-EBE7C413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3EFF5-810E-47B1-BA6C-FF788986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5EE97-8D32-44BF-9DC5-A7F25C20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575B-F978-4E43-9F3E-931B869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E2F-C16A-4980-A3C6-67D57AB0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FB762-6E07-4245-8EA8-B42892FB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88B2D-017D-4B3C-822B-CEA225D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A6D6B-2F33-42D3-BDD9-00A9F803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E0CBC-3E69-418C-AC10-AD27CDFB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B862A-938C-45FF-9987-7E81636A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AADC6-0DC1-40FE-80B8-4FB8E3F3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6F30F-222F-4F6B-B43C-7DE62494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886CA-A2E8-46C5-8C5C-DEE3CDDF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45BA8-D797-4EAC-A001-E25092DB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8DA1D-82FE-4E8B-B82C-EE28C569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6CDB-E7F1-40BA-8AAF-E548D717B4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B844-D317-49A1-BAA0-8A0319DD28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59C4-286F-44A3-8B61-185BA6C617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07AD-059C-43FC-A5C8-60CC486BB3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9BD-F9FA-4B83-AFC9-E462A3427B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FEB0-A01E-4197-B88B-C401DDB3E2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1B03-BC0D-489A-A570-E390BD81D1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6938-0C82-4573-A8AB-B45C80C2D7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A29C-4BA5-4BB9-B4E1-112FA04D71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70C9-0F70-4E17-AD04-4F1F9FC26A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SAaiYKF0cs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4.1 CLASSIFICATION OF MATTER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42" name="Picture 7" descr="chemistry11_index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Solution (homogeneous)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Two or more different partic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Evenly distribut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1 phase (</a:t>
            </a:r>
            <a:r>
              <a:rPr b="1" lang="en-CA" sz="2400" spc="-1" strike="noStrike">
                <a:solidFill>
                  <a:srgbClr val="292934"/>
                </a:solidFill>
                <a:latin typeface="Arial"/>
              </a:rPr>
              <a:t>homogeneous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 be separated by physical mea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In a homogeneous mixture you can </a:t>
            </a:r>
            <a:r>
              <a:rPr b="1" lang="en-CA" sz="2400" spc="-1" strike="noStrike" u="sng">
                <a:solidFill>
                  <a:srgbClr val="292934"/>
                </a:solidFill>
                <a:uFillTx/>
                <a:latin typeface="Arial"/>
              </a:rPr>
              <a:t>not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see different layers or pieces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76" name="Picture 7" descr="_x001d_°"/>
          <p:cNvPicPr/>
          <p:nvPr/>
        </p:nvPicPr>
        <p:blipFill>
          <a:blip r:embed="rId1"/>
          <a:stretch/>
        </p:blipFill>
        <p:spPr>
          <a:xfrm>
            <a:off x="5869080" y="1600200"/>
            <a:ext cx="1596960" cy="2185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product_chem"/>
          <p:cNvPicPr/>
          <p:nvPr/>
        </p:nvPicPr>
        <p:blipFill>
          <a:blip r:embed="rId2"/>
          <a:stretch/>
        </p:blipFill>
        <p:spPr>
          <a:xfrm>
            <a:off x="5443560" y="4175280"/>
            <a:ext cx="2448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echanical mixture (heterogeneous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79" name="Picture 7" descr="_x001d_°"/>
          <p:cNvPicPr/>
          <p:nvPr/>
        </p:nvPicPr>
        <p:blipFill>
          <a:blip r:embed="rId1"/>
          <a:stretch/>
        </p:blipFill>
        <p:spPr>
          <a:xfrm>
            <a:off x="1541520" y="1600200"/>
            <a:ext cx="1869840" cy="2185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9" descr="liquiddensity"/>
          <p:cNvPicPr/>
          <p:nvPr/>
        </p:nvPicPr>
        <p:blipFill>
          <a:blip r:embed="rId2"/>
          <a:stretch/>
        </p:blipFill>
        <p:spPr>
          <a:xfrm>
            <a:off x="1666800" y="3938760"/>
            <a:ext cx="1619280" cy="21873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Two or more different partic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Unevenly distribut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More than1 phase (</a:t>
            </a:r>
            <a:r>
              <a:rPr b="1" lang="en-CA" sz="2400" spc="-1" strike="noStrike">
                <a:solidFill>
                  <a:srgbClr val="292934"/>
                </a:solidFill>
                <a:latin typeface="Arial"/>
              </a:rPr>
              <a:t>heterogeneous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 be separated by physical mea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In a heterogeneous mixture you can see different layers or pieces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c2f1"/>
          <p:cNvPicPr/>
          <p:nvPr/>
        </p:nvPicPr>
        <p:blipFill>
          <a:blip r:embed="rId1"/>
          <a:stretch/>
        </p:blipFill>
        <p:spPr>
          <a:xfrm>
            <a:off x="1600200" y="609480"/>
            <a:ext cx="60199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Homework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34"/>
                </a:solidFill>
                <a:latin typeface="Arial"/>
              </a:rPr>
              <a:t>Due Oct 16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2533c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371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tter has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mas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&amp; occupies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pace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volume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ss is defined as the amount of matter in a substance or object (measured in grams (g), milligrams (mg), kilograms (kg)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 be a pure substance or a mixtu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45" name="Picture 5" descr="ts?t=11484344792958141506&amp;pid=23136&amp;ppid=10"/>
          <p:cNvPicPr/>
          <p:nvPr/>
        </p:nvPicPr>
        <p:blipFill>
          <a:blip r:embed="rId1"/>
          <a:stretch/>
        </p:blipFill>
        <p:spPr>
          <a:xfrm>
            <a:off x="6824520" y="2965320"/>
            <a:ext cx="2319480" cy="1685880"/>
          </a:xfrm>
          <a:prstGeom prst="rect">
            <a:avLst/>
          </a:prstGeom>
          <a:ln w="0">
            <a:noFill/>
          </a:ln>
        </p:spPr>
      </p:pic>
      <p:pic>
        <p:nvPicPr>
          <p:cNvPr id="446" name="Diagram 4" descr=""/>
          <p:cNvPicPr/>
          <p:nvPr/>
        </p:nvPicPr>
        <p:blipFill>
          <a:blip r:embed="rId2"/>
          <a:stretch/>
        </p:blipFill>
        <p:spPr>
          <a:xfrm>
            <a:off x="146160" y="2919240"/>
            <a:ext cx="7327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ll matter is composed of ATOM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toms are the smallest component of all pure material. Ex. Hydrogen is composed of hydrogen ATOM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lements are the purest material that cannot be further broken down. Ex. Water is composed of the elements oxygen and hydroge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49" name="Picture 5" descr="WaterCharged"/>
          <p:cNvPicPr/>
          <p:nvPr/>
        </p:nvPicPr>
        <p:blipFill>
          <a:blip r:embed="rId1"/>
          <a:stretch/>
        </p:blipFill>
        <p:spPr>
          <a:xfrm>
            <a:off x="6019920" y="3886200"/>
            <a:ext cx="2333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ure Substa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51" name="Picture 8" descr="separating-mixtures"/>
          <p:cNvPicPr/>
          <p:nvPr/>
        </p:nvPicPr>
        <p:blipFill>
          <a:blip r:embed="rId1"/>
          <a:srcRect l="0" t="13461" r="0" b="0"/>
          <a:stretch/>
        </p:blipFill>
        <p:spPr>
          <a:xfrm>
            <a:off x="100080" y="2286000"/>
            <a:ext cx="5268960" cy="3429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ave a fixed composition and cannot be separated by physical mea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lemen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One type of particle, ex. helium contains single He ato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Oxygen in air contains 2 oxygen bonded together, this is still a pure substance composed of one element, it is called a </a:t>
            </a:r>
            <a:r>
              <a:rPr b="0" lang="en-CA" sz="2400" spc="-1" strike="noStrike" u="sng">
                <a:solidFill>
                  <a:srgbClr val="292934"/>
                </a:solidFill>
                <a:uFillTx/>
                <a:latin typeface="Arial"/>
              </a:rPr>
              <a:t>molecule</a:t>
            </a: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55" name="Picture 5" descr="c2f1"/>
          <p:cNvPicPr/>
          <p:nvPr/>
        </p:nvPicPr>
        <p:blipFill>
          <a:blip r:embed="rId1"/>
          <a:srcRect l="0" t="0" r="55704" b="58239"/>
          <a:stretch/>
        </p:blipFill>
        <p:spPr>
          <a:xfrm>
            <a:off x="6400800" y="1701720"/>
            <a:ext cx="1981080" cy="1755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c2f1"/>
          <p:cNvPicPr/>
          <p:nvPr/>
        </p:nvPicPr>
        <p:blipFill>
          <a:blip r:embed="rId2"/>
          <a:srcRect l="58233" t="0" r="0" b="58239"/>
          <a:stretch/>
        </p:blipFill>
        <p:spPr>
          <a:xfrm>
            <a:off x="6248520" y="4648320"/>
            <a:ext cx="17524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lemen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annot be broken down into simpler substanc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eriodic table so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59" name="Picture 7" descr="table"/>
          <p:cNvPicPr/>
          <p:nvPr/>
        </p:nvPicPr>
        <p:blipFill>
          <a:blip r:embed="rId2"/>
          <a:stretch/>
        </p:blipFill>
        <p:spPr>
          <a:xfrm>
            <a:off x="4495680" y="826920"/>
            <a:ext cx="4572000" cy="2476800"/>
          </a:xfrm>
          <a:prstGeom prst="rect">
            <a:avLst/>
          </a:prstGeom>
          <a:ln w="0">
            <a:noFill/>
          </a:ln>
        </p:spPr>
      </p:pic>
      <p:sp>
        <p:nvSpPr>
          <p:cNvPr id="460" name="TextBox 2"/>
          <p:cNvSpPr/>
          <p:nvPr/>
        </p:nvSpPr>
        <p:spPr>
          <a:xfrm>
            <a:off x="304920" y="388620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y can be identified by their chemical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YMBOL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(as indicated on a periodic table)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You should know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first 20 symbol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nd…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Iron, nickel, copper, zinc, bromine, silver, tin, iodine, gold,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mercury, le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mpound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62" name="Picture 7" descr="pure compound"/>
          <p:cNvPicPr/>
          <p:nvPr/>
        </p:nvPicPr>
        <p:blipFill>
          <a:blip r:embed="rId1"/>
          <a:stretch/>
        </p:blipFill>
        <p:spPr>
          <a:xfrm>
            <a:off x="878040" y="1905120"/>
            <a:ext cx="2798640" cy="3429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34"/>
                </a:solidFill>
                <a:latin typeface="Arial"/>
              </a:rPr>
              <a:t>Composed of two or more </a:t>
            </a:r>
            <a:r>
              <a:rPr b="1" lang="en-CA" sz="2800" spc="-1" strike="noStrike">
                <a:solidFill>
                  <a:srgbClr val="292934"/>
                </a:solidFill>
                <a:latin typeface="Arial"/>
              </a:rPr>
              <a:t>different types of atoms (water: made of oxygen and hydrogen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34"/>
                </a:solidFill>
                <a:latin typeface="Arial"/>
              </a:rPr>
              <a:t>Can only be broken down by chemical mea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4" name="Rectangle 1"/>
          <p:cNvSpPr/>
          <p:nvPr/>
        </p:nvSpPr>
        <p:spPr>
          <a:xfrm>
            <a:off x="2514600" y="4952880"/>
            <a:ext cx="762120" cy="381240"/>
          </a:xfrm>
          <a:prstGeom prst="rect">
            <a:avLst/>
          </a:prstGeom>
          <a:solidFill>
            <a:srgbClr val="ffffff"/>
          </a:solidFill>
          <a:ln w="26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Which of the following are elements and which are compounds?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66" name="Picture 12" descr="compounds_molecules"/>
          <p:cNvPicPr/>
          <p:nvPr/>
        </p:nvPicPr>
        <p:blipFill>
          <a:blip r:embed="rId1"/>
          <a:stretch/>
        </p:blipFill>
        <p:spPr>
          <a:xfrm>
            <a:off x="604800" y="1600200"/>
            <a:ext cx="3743280" cy="2185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4" descr="pure_gold"/>
          <p:cNvPicPr/>
          <p:nvPr/>
        </p:nvPicPr>
        <p:blipFill>
          <a:blip r:embed="rId2"/>
          <a:stretch/>
        </p:blipFill>
        <p:spPr>
          <a:xfrm>
            <a:off x="5041800" y="1600200"/>
            <a:ext cx="3251160" cy="2185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" descr="mercury_drops_large"/>
          <p:cNvPicPr/>
          <p:nvPr/>
        </p:nvPicPr>
        <p:blipFill>
          <a:blip r:embed="rId3"/>
          <a:stretch/>
        </p:blipFill>
        <p:spPr>
          <a:xfrm>
            <a:off x="1319040" y="3938760"/>
            <a:ext cx="2314800" cy="2187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Chem_KClO3"/>
          <p:cNvPicPr/>
          <p:nvPr/>
        </p:nvPicPr>
        <p:blipFill>
          <a:blip r:embed="rId4"/>
          <a:stretch/>
        </p:blipFill>
        <p:spPr>
          <a:xfrm>
            <a:off x="5388120" y="3938760"/>
            <a:ext cx="25588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x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Variable composition, ex. 5% or 10% salt solu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an be separated by physical mea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72" name="Picture 8" descr="mixture"/>
          <p:cNvPicPr/>
          <p:nvPr/>
        </p:nvPicPr>
        <p:blipFill>
          <a:blip r:embed="rId1"/>
          <a:stretch/>
        </p:blipFill>
        <p:spPr>
          <a:xfrm>
            <a:off x="5238720" y="2208240"/>
            <a:ext cx="285768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homemade-salad-dressing"/>
          <p:cNvPicPr/>
          <p:nvPr/>
        </p:nvPicPr>
        <p:blipFill>
          <a:blip r:embed="rId2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8:20:51Z</dcterms:created>
  <dc:creator>OCDSB</dc:creator>
  <dc:description/>
  <dc:language>en-US</dc:language>
  <cp:lastModifiedBy>Katie</cp:lastModifiedBy>
  <dcterms:modified xsi:type="dcterms:W3CDTF">2014-10-01T19:17:44Z</dcterms:modified>
  <cp:revision>46</cp:revision>
  <dc:subject/>
  <dc:title>Classification of Matter</dc:title>
</cp:coreProperties>
</file>